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3EDC-2CDB-402F-9C44-A0B01E47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A1E1-7C98-4761-8AB7-B1B8314B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BAC7-9B18-49E5-B957-7272A5CC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A3DC-7BDA-4378-834B-D088C1A7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191B-6D29-4D52-AF06-A0DBE438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665F-CFF2-40C8-A9EB-6C520F03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458E-B518-4B11-8AB5-5F0E5F27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8A2A-C91D-4C7B-9E07-487D43B3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5C5F-572E-4E8D-AD31-7B1D9AB3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4199-71D9-42A2-9675-7C59414A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606D-FCED-4229-8C7A-11A71188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BC47-ED84-4ED4-9C2C-C185ABBB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D3A9-76C6-40CF-8B78-CB99AB8F7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em720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655344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nn720" descr=""/>
          <p:cNvPicPr/>
          <p:nvPr/>
        </p:nvPicPr>
        <p:blipFill>
          <a:blip r:embed="rId1"/>
          <a:stretch/>
        </p:blipFill>
        <p:spPr>
          <a:xfrm>
            <a:off x="2057400" y="0"/>
            <a:ext cx="26416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3T00:27:21Z</dcterms:created>
  <dc:creator>geoff lyon</dc:creator>
  <dc:description/>
  <dc:language>en-US</dc:language>
  <cp:lastModifiedBy>geoff lyon</cp:lastModifiedBy>
  <dcterms:modified xsi:type="dcterms:W3CDTF">2001-10-13T00:27:54Z</dcterms:modified>
  <cp:revision>1</cp:revision>
  <dc:subject/>
  <dc:title>PowerPoint Presentation</dc:title>
</cp:coreProperties>
</file>